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23964"/>
        <c:axId val="42726044"/>
      </c:barChart>
      <c:catAx>
        <c:axId val="85723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6044"/>
        <c:crosses val="autoZero"/>
        <c:auto val="1"/>
        <c:lblAlgn val="ctr"/>
        <c:lblOffset val="100"/>
        <c:noMultiLvlLbl val="0"/>
      </c:catAx>
      <c:valAx>
        <c:axId val="42726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23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BF5-0684-4F83-940A-4CD78A55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FAA-4580-4533-8030-EF065B58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121-506B-4BBE-B943-6BD88E5B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90C-6879-4D18-9D88-5358E5B0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E2D-C095-4DC1-9A59-8C925D9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907-23A1-446D-BD25-1AE19BE1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0CC-2FA1-4956-B75F-458FCA52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8CF-4355-4ED2-958F-429C3262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12C-62C0-4288-9E6E-BB5F477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BA8-6415-4F56-A331-954DDE37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03F-4128-4330-8E67-FEA4726E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7C9-4BB7-49C4-B959-FF421DD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C4046-8915-4642-83D7-8B5912341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