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15504"/>
        <c:axId val="95734546"/>
      </c:barChart>
      <c:catAx>
        <c:axId val="39815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34546"/>
        <c:crosses val="autoZero"/>
        <c:auto val="1"/>
        <c:lblAlgn val="ctr"/>
        <c:lblOffset val="100"/>
        <c:noMultiLvlLbl val="0"/>
      </c:catAx>
      <c:valAx>
        <c:axId val="95734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15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CFE-686D-455F-B24F-169F98D5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7A9-EE7F-435D-9C15-DFCED6D2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0D5-3623-4D21-872D-EEFFA342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5EA-ADA6-4E13-9ADE-58676C93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471-6A3D-497F-B339-015D7A2B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CA0-28DE-4E6E-B7F1-1BA28439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0E0-F61E-4DB5-BACB-2A7F3102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A19-1281-435D-9EB6-5B7A0C6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B8D-71F8-4770-AE80-754A2635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206-A402-4556-9645-211FEB1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905-C37E-42F3-A68B-23FBDE7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ACF-09E2-423C-85FA-3CE86C23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F2C3E-4ACA-465A-972D-581E306BD8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