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30772"/>
        <c:axId val="617342"/>
      </c:barChart>
      <c:catAx>
        <c:axId val="42430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342"/>
        <c:crosses val="autoZero"/>
        <c:auto val="1"/>
        <c:lblAlgn val="ctr"/>
        <c:lblOffset val="100"/>
        <c:noMultiLvlLbl val="0"/>
      </c:catAx>
      <c:valAx>
        <c:axId val="61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0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6AE-3DEB-419A-A522-B89F4C7F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33A-DF96-41F4-8237-FB036B0F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C85-7AF7-40E4-A752-EB3E8F3E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3B3-4E40-4DFF-A0CF-7ED9EF52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DEC-4F36-4327-B3DB-1B530B5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987-0712-400A-8D05-58150451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12C-BE6F-4F36-8064-DC727A4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B43-B4E6-4D94-9484-416D87C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20F-5A22-4BAD-B33C-2F9E337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5DC-1882-484C-8F79-4B71718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15A-8BD4-4893-9363-FAE4A8B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CF5-AE36-4AAD-83E0-79770BB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8455F-AD8C-4C49-B648-847D00501A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