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098741"/>
        <c:axId val="47788185"/>
      </c:barChart>
      <c:catAx>
        <c:axId val="100987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788185"/>
        <c:crosses val="autoZero"/>
        <c:auto val="1"/>
        <c:lblAlgn val="ctr"/>
        <c:lblOffset val="100"/>
        <c:noMultiLvlLbl val="0"/>
      </c:catAx>
      <c:valAx>
        <c:axId val="477881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0987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C490-2D0E-42CB-8E11-D2F96C895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1CD9-6F8C-429C-888A-8F3C1C02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2DB9-F0FE-4C0D-BE19-C5647734D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718F-6531-4CC9-A968-1D2B798DA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E01C-868B-4182-86F6-37CEE65D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6079-110B-4C48-9C22-7E41C6C8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1E14-3286-4B2D-8A01-9B33B492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9B42-5248-442D-8DEC-AE2430E1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087F-6885-4ED8-8A29-0FA74B74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BF7C-0B4B-4B1D-9744-6CE14265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6DB7-0B65-46D4-B080-B002BC07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579A-752D-4F78-80AD-68010748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0D0FE1-F64B-4931-BBE9-389643912D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