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939549"/>
        <c:axId val="64840351"/>
      </c:barChart>
      <c:catAx>
        <c:axId val="489395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40351"/>
        <c:crosses val="autoZero"/>
        <c:auto val="1"/>
        <c:lblAlgn val="ctr"/>
        <c:lblOffset val="100"/>
        <c:noMultiLvlLbl val="0"/>
      </c:catAx>
      <c:valAx>
        <c:axId val="648403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395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A7CD-1180-4CB8-AD79-4F6921B8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8FDA-A1A0-4D50-BE60-7EC0628B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E5B7-D3CE-465E-AAB7-207D7EE2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313F-CE67-498C-B0C3-EDC38914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A892-AD53-477C-933D-C6E46550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512E-5903-41F5-BC98-F0AE0650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5C54-946A-43A5-B06C-6D2D3396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957A-C0F8-4836-9B1C-F15BB3E5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F718-BE94-4060-89C2-544E8ACC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52D4-4838-4690-9E42-84BEE7F4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6B3C-B9F1-4FD7-B251-40353156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A0C7-5417-4B5E-9834-54894779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A3D4B-D8F1-4724-A21A-CF25A6C834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