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987354"/>
        <c:axId val="6900349"/>
      </c:barChart>
      <c:catAx>
        <c:axId val="799873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0349"/>
        <c:crosses val="autoZero"/>
        <c:auto val="1"/>
        <c:lblAlgn val="ctr"/>
        <c:lblOffset val="100"/>
        <c:noMultiLvlLbl val="0"/>
      </c:catAx>
      <c:valAx>
        <c:axId val="69003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873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1659-4EF8-4412-91E8-A37E5C4C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7D23-C887-49B1-A6D4-59AEBA75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098E-FE2B-4913-92E9-BF12756A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2969-DD0C-4CC0-8E5A-A403A76C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5A9B-D7C0-42AF-A7E1-F4AE974B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B1F3-90A1-446F-BF13-C481ABA6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AED-7F84-497F-9A98-BAC28977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16F4-1CE7-4F82-B744-0FC6D5B0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6B27-55BD-4707-A1AE-3AB750DD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ED35-7FB5-49CB-9BB6-F490B0F9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8CA-B61E-4521-B65D-D6D77F70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D9AE-C22C-4D8C-ACB6-58C3704C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BFA88-4D51-4EA7-8232-3906ADEF83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