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36008"/>
        <c:axId val="89320400"/>
      </c:barChart>
      <c:catAx>
        <c:axId val="76036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20400"/>
        <c:crosses val="autoZero"/>
        <c:auto val="1"/>
        <c:lblAlgn val="ctr"/>
        <c:lblOffset val="100"/>
        <c:noMultiLvlLbl val="0"/>
      </c:catAx>
      <c:valAx>
        <c:axId val="89320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36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963-A778-41A0-9747-18C4BC27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CD5-8801-4BA0-A6AB-9EA45AE0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F84-14AB-47BF-BE21-C152E05E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0DD-FE6F-433C-8412-C24CDB45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C9F-4349-4A4D-A154-93AF7CDD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616-02F0-4D1A-85E7-630DC724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AC91-C836-4486-BC43-4A868950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B56-A7E7-41DC-81F1-CD0BE054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02D-D669-404C-BD3A-3E87907B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ACB-9926-4A84-875B-C9AEA8DF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217-C0AE-4876-B411-BC100F7B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FF8D-AE20-4959-84C1-A65277D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C841C-9F52-490F-ACFC-87A0F9114F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