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27196"/>
        <c:axId val="90906414"/>
      </c:barChart>
      <c:catAx>
        <c:axId val="42727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06414"/>
        <c:crosses val="autoZero"/>
        <c:auto val="1"/>
        <c:lblAlgn val="ctr"/>
        <c:lblOffset val="100"/>
        <c:noMultiLvlLbl val="0"/>
      </c:catAx>
      <c:valAx>
        <c:axId val="90906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7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F29-B323-4864-AEBC-2844BDC7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760-D889-4FEA-9243-00BCEB8A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C57-4058-48A9-A4A1-671E81C0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64F-5089-4458-B608-8454E403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043-007C-454A-AC27-92ECA746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51A-D167-40D6-BBC9-FC7F3368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F90-A94F-47D3-9082-27CE00B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74F-20D9-4292-A3B2-E9DAEA57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EEA-0300-4C38-A1FC-745D5EAD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6E8-4D27-4552-BDCF-916E2E6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493-3A22-4477-B398-A5831B3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7A5-7217-46CA-BC71-BE203634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15CD1-D464-4CE0-9D0B-6CF8DB8D3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