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39551"/>
        <c:axId val="48272887"/>
      </c:barChart>
      <c:catAx>
        <c:axId val="68239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72887"/>
        <c:crosses val="autoZero"/>
        <c:auto val="1"/>
        <c:lblAlgn val="ctr"/>
        <c:lblOffset val="100"/>
        <c:noMultiLvlLbl val="0"/>
      </c:catAx>
      <c:valAx>
        <c:axId val="4827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39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708-D829-471A-BEAF-9A26C38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FC7-3EB4-40C9-8005-C11DCD2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BAB-1EC7-44C1-9E75-B83A8142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221-FF7C-42D4-A517-CE438624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654-55B8-4B8D-BAF1-08477F1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220-4407-4876-AE55-6715493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8F4-5961-4BCA-AF0D-9FC578BE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34E-93AB-4EA8-9468-DB4DE1EB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9DC-953D-49CF-B872-BAA9290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AD8-61CE-47FD-AC01-68785D7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F1-E5A4-48A2-985E-12D099C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60A-9BF5-4271-A3D1-B1CE2C9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E700-F295-4D8F-99A3-9176D3A4E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