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29207"/>
        <c:axId val="48349155"/>
      </c:barChart>
      <c:catAx>
        <c:axId val="50629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49155"/>
        <c:crosses val="autoZero"/>
        <c:auto val="1"/>
        <c:lblAlgn val="ctr"/>
        <c:lblOffset val="100"/>
        <c:noMultiLvlLbl val="0"/>
      </c:catAx>
      <c:valAx>
        <c:axId val="48349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29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76B-8982-481E-B351-19E46452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44D-DCB8-4C78-BA43-A40FB9DE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CD1-23C0-43E1-92D6-6DF45985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E6B-57EB-4622-A388-BF90EC6D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B38-BCC3-4C7F-9B3E-2538F5F3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1DE-8DFD-4FBC-8D87-BB6C934B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88C-CE2F-442E-8834-90E4D60C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858-8871-4431-8314-C6EA9214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A44-2A67-48BF-9C8F-210A3878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1A8-6631-486D-B6DA-E62F78C6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CAC-6837-4475-95C2-A303E7E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090-22D4-4339-A520-4E1C9817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54C80-0517-4735-82DE-27A61FB675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