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15702"/>
        <c:axId val="74907847"/>
      </c:barChart>
      <c:catAx>
        <c:axId val="60515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07847"/>
        <c:crosses val="autoZero"/>
        <c:auto val="1"/>
        <c:lblAlgn val="ctr"/>
        <c:lblOffset val="100"/>
        <c:noMultiLvlLbl val="0"/>
      </c:catAx>
      <c:valAx>
        <c:axId val="74907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5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B04-DA55-437C-B52D-3EDE1B78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C97-BD1C-495C-854A-8607BC3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5CA-FEC2-4A6C-8F95-FF68BC80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956-4D04-4342-A3FA-C72A6B80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9CF-A78F-4D85-B4D4-26ED90D9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3A2-55A1-472A-8F1D-D75FA0DF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D79-47E9-4318-B849-11D35A3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D32-9657-4A76-B462-C200383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9F2-6456-46A1-8A06-ADFF3361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7B4-C225-42EE-B335-63D90B6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F02-298C-424D-B799-697703B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DC2-9EBD-492F-93A6-AC8FA864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F6A33-B9D3-40BB-BA98-7298026F35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