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81465"/>
        <c:axId val="85002832"/>
      </c:barChart>
      <c:catAx>
        <c:axId val="14381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02832"/>
        <c:crosses val="autoZero"/>
        <c:auto val="1"/>
        <c:lblAlgn val="ctr"/>
        <c:lblOffset val="100"/>
        <c:noMultiLvlLbl val="0"/>
      </c:catAx>
      <c:valAx>
        <c:axId val="85002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81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CCC-A693-46D7-9C76-A0BDE76B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283-0A98-4285-B742-C9DC5E89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C18-5DB3-4205-9649-54F4E2D9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FB3-6994-4AF8-9EC7-A39BAFD4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DAF-C715-48DF-857B-0CB6A00E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986-0984-4E04-BF82-A690535E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58C-9365-4412-9427-32C1D50D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A91-FB14-41DD-AC7C-52BE2811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52E-A426-41DA-9B65-21D7DDDB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783-1B88-4C50-B24D-A0BB893A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4B2-2B58-470E-9A7B-2D2C448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D3A-88C1-4285-AF9B-E4F9A31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E7C32-2768-4CB8-A378-25A518301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