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1301"/>
        <c:axId val="77432563"/>
      </c:barChart>
      <c:catAx>
        <c:axId val="1913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32563"/>
        <c:crosses val="autoZero"/>
        <c:auto val="1"/>
        <c:lblAlgn val="ctr"/>
        <c:lblOffset val="100"/>
        <c:noMultiLvlLbl val="0"/>
      </c:catAx>
      <c:valAx>
        <c:axId val="774325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3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D724-6D84-422F-957E-9131CEC8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FCDE-8514-46E6-B7C9-C39293CC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A76D-C995-4235-963F-814EC48E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FFBB-5E4E-4894-8E4B-B14C13116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8EE8-8791-403E-A82D-6F193E2E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B846-F859-49B6-9DA7-8F15773D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A3DE-13CE-4A86-8694-5C9E392D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35FE-1C39-40CA-AF2A-FDD7E8C0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0AC5-724A-4675-9630-F0366570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9502-C6C8-4EF3-AAF3-6274F88C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40E3-5860-4219-A2E9-18B8D0DA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D4B4-9B6B-460B-BD2B-FBB2AAF0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F47F3-8247-4DBB-BC96-FF9153239F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