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09528"/>
        <c:axId val="1285716"/>
      </c:barChart>
      <c:catAx>
        <c:axId val="96209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716"/>
        <c:crosses val="autoZero"/>
        <c:auto val="1"/>
        <c:lblAlgn val="ctr"/>
        <c:lblOffset val="100"/>
        <c:noMultiLvlLbl val="0"/>
      </c:catAx>
      <c:valAx>
        <c:axId val="1285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9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1FF-39E4-47C9-9A14-E107D914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9BE-7114-42AF-9258-C72BA3FC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A06-7DAB-47C1-B6D7-B9272945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2E3-FD91-4FA3-95C2-1F69CA8E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819-0678-4B71-B338-0EC45E78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5FA-A329-464F-BB7D-EF55DDD5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E8D-3501-4A9C-BC3C-D739B5A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4A1-9FDC-46C4-A92B-CE97C38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26F-C7EB-4F35-854E-9DDA666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665-FAB2-48A7-8FFB-EDBDCCB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155-E4E2-4521-AA3C-4F12AFD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1BA-ACD6-4312-B086-5B240A3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BEFD4-06B8-41B5-8981-41B8D4F5C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