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4501"/>
        <c:axId val="77223371"/>
      </c:barChart>
      <c:catAx>
        <c:axId val="7754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23371"/>
        <c:crosses val="autoZero"/>
        <c:auto val="1"/>
        <c:lblAlgn val="ctr"/>
        <c:lblOffset val="100"/>
        <c:noMultiLvlLbl val="0"/>
      </c:catAx>
      <c:valAx>
        <c:axId val="77223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4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8C6-80FB-4321-A3A6-4DA78B94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484-29AE-4F01-83AE-C7A0386B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309-08B9-4EF9-B70C-C9E94877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0C1-7860-40DC-809A-B618C798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1AC-1A22-4626-92A0-12D8BC49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17A-2AFE-4609-A53E-72C4DC47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AE4-1F0B-4748-8AC2-B703612A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D19-7184-46CF-B42C-FE3DFCE2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22A-AA23-442F-89E9-346D945F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1FD-A55A-4019-8DCE-2A83A9EF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236-93EF-4E58-8F4C-4C2B6CC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7A4-0A0B-4686-929B-1EE4D7BA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40029-AA6B-45C0-8559-DB3A0CBE52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