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78414"/>
        <c:axId val="31098441"/>
      </c:barChart>
      <c:catAx>
        <c:axId val="87778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8441"/>
        <c:crosses val="autoZero"/>
        <c:auto val="1"/>
        <c:lblAlgn val="ctr"/>
        <c:lblOffset val="100"/>
        <c:noMultiLvlLbl val="0"/>
      </c:catAx>
      <c:valAx>
        <c:axId val="31098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8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DB5-DA01-4BBC-8E11-007B7238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9AE-B769-49EE-ACC8-1033A696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D8E-E9F0-4671-9DEB-ECED06C2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558-9EEE-4457-993F-5DD4596B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FFF-D250-4498-B01B-27136E25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123-4C36-46D4-B54C-A73052E6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15C-61B6-4674-9355-C71F2EA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112-E217-4F4D-BE27-D3DA492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A05-50DA-49A0-8009-F23017B0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86B-88A8-47E9-9155-D23B13D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5E8-49F1-4E83-9A96-1B7AC46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AD0-9483-4CF5-9D99-D811579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8BFDF-9776-4CB1-B038-56494CEDCD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