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31039"/>
        <c:axId val="90969944"/>
      </c:barChart>
      <c:catAx>
        <c:axId val="77431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69944"/>
        <c:crosses val="autoZero"/>
        <c:auto val="1"/>
        <c:lblAlgn val="ctr"/>
        <c:lblOffset val="100"/>
        <c:noMultiLvlLbl val="0"/>
      </c:catAx>
      <c:valAx>
        <c:axId val="90969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31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B66-1FA8-4233-86CF-BC5697A2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46E-4906-4031-87AD-0C8F4189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EAD-4B79-4D4A-950D-A5943BC6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456-9B3C-4954-BBE2-754D46C3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E81-6480-45D8-8410-372C2634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481-9766-464C-8DDE-935683A7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57D-8683-4421-87FC-114754A1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ECE-3493-475D-A1A3-1F120D6A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863-A7C7-4D04-BEDC-0463CC50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CC1-5D02-4119-8BD9-69D69CB4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857-2341-49AB-9C90-9F3A9E07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D61-F2A2-4711-AB3F-60885F29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06599-D762-4EF5-B40D-48DCA39502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