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598934"/>
        <c:axId val="44118931"/>
      </c:barChart>
      <c:catAx>
        <c:axId val="625989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118931"/>
        <c:crosses val="autoZero"/>
        <c:auto val="1"/>
        <c:lblAlgn val="ctr"/>
        <c:lblOffset val="100"/>
        <c:noMultiLvlLbl val="0"/>
      </c:catAx>
      <c:valAx>
        <c:axId val="441189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989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0697-C279-44DC-9C76-0E92A557C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2ABC-C484-45B9-8A6A-E7E81BB9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A28E-EABF-4359-B409-AC2E7ED7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B85F-71CC-48B6-92CD-4F6E3456C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BC4E-58F5-4D41-9DBB-CB1156B3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0D25-34D7-4A96-A32D-CE6A0D0A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B275-7820-4634-A79C-A10536DB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6676-723C-44E9-B510-7FE58ACA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EA72-B17E-4CC6-BB77-A04DCF62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8130-DE62-40F0-8601-C9922650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FE9A-A343-4181-8CAD-70020EDD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9DBA-1EFC-4474-A06F-70F2BF0C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EA6A0-4A4A-4E52-A97D-BD421E57D6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