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99849"/>
        <c:axId val="39359917"/>
      </c:barChart>
      <c:catAx>
        <c:axId val="96699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59917"/>
        <c:crosses val="autoZero"/>
        <c:auto val="1"/>
        <c:lblAlgn val="ctr"/>
        <c:lblOffset val="100"/>
        <c:noMultiLvlLbl val="0"/>
      </c:catAx>
      <c:valAx>
        <c:axId val="39359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99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F42-EB0D-4DD6-9E81-7BBD9696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F60-CDCC-4854-A9CE-5853DB16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E67-8405-4169-88A4-E5A4A100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83D-5B60-4F84-B369-EB3455E0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EB1-2DA9-4046-A1B8-AF044444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329-BA36-46B4-B980-67F07BF3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199-EB2F-4EE9-9DF4-EA34599A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65A-3386-4078-9DE9-805CFCE2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65D-C4D6-4674-95BC-74DF58FB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C8B-DEF9-42F9-9FEB-DB5AE41C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00A-ACE0-4844-B4C9-077B82A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F2A-93AB-4AE1-B4C7-CFA8FFE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A46F5-2D0D-4257-81A1-127501B3A2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