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18312"/>
        <c:axId val="27272386"/>
      </c:barChart>
      <c:catAx>
        <c:axId val="90218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72386"/>
        <c:crosses val="autoZero"/>
        <c:auto val="1"/>
        <c:lblAlgn val="ctr"/>
        <c:lblOffset val="100"/>
        <c:noMultiLvlLbl val="0"/>
      </c:catAx>
      <c:valAx>
        <c:axId val="27272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8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1A0-6B21-4C66-89C6-0582E074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887-4C99-4D88-943C-4D4631FD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594-F9BB-4E4D-9610-A2DE1C10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7B0-E600-40C3-B952-61F0CCB6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644-B0A7-42FF-91D4-A2BE86A1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F45-D642-4FC8-9908-997DFD40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0FF-EFC8-417A-B967-1E0CC0C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D9B-72B7-49AC-9040-38E0EF05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056-2A7B-4070-9217-30E42541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518-605F-4857-BC8A-70B4E1F3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88C-D6CC-416E-A785-2CCB7295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FF5-F990-412B-A463-D150DEE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5A941-75A2-4567-8D55-54AF99B86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