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773"/>
        <c:axId val="93513468"/>
      </c:barChart>
      <c:catAx>
        <c:axId val="360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3468"/>
        <c:crosses val="autoZero"/>
        <c:auto val="1"/>
        <c:lblAlgn val="ctr"/>
        <c:lblOffset val="100"/>
        <c:noMultiLvlLbl val="0"/>
      </c:catAx>
      <c:valAx>
        <c:axId val="93513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E1F-0DC3-4428-90F5-6D38E48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0BF-8553-4E64-AEF8-23CE8C6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2E4-C0C3-4AE0-A710-3CB229AD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35E-5B46-491A-9BBE-D4C361B2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4C2-69D9-478D-B983-FCFAB79C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6C8-1513-432C-9B79-7E7DAF3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843-3CEC-4197-A2D2-204E23E2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ADD-A018-49FA-B755-A5D7FB7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402-9F9F-4D84-BAFA-B2F70E0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258-F3CB-4E77-B89B-F0EDCF0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C88-D18F-412E-A86D-CFA8A9B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F65-7CA2-43FC-9F99-6FE99E70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BA4D-BE8D-484D-AEFB-60359F4DF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