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91216"/>
        <c:axId val="7325835"/>
      </c:barChart>
      <c:catAx>
        <c:axId val="86991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5835"/>
        <c:crosses val="autoZero"/>
        <c:auto val="1"/>
        <c:lblAlgn val="ctr"/>
        <c:lblOffset val="100"/>
        <c:noMultiLvlLbl val="0"/>
      </c:catAx>
      <c:valAx>
        <c:axId val="7325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1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DA3E-12F5-443E-91E3-D221E3B2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09B-0B6D-4C9E-8188-2B283270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E2C-8C9D-45BF-BC1D-AD155DF0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114-F5E3-486B-9E23-82CF011F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637-B303-4824-87FB-01C0CAD6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248-4DA4-420D-9D28-4D1C8C28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E01-F4B4-4971-B981-871877B4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06F-664F-47A7-BA6F-9AA28086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BC5B-4890-491B-8867-5EC8995A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0E5-6CD6-4C68-AB26-280AC456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034-414A-4036-BC26-21BB01F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029-2737-4B99-A2D7-0328065E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6C177-8D0D-4C71-9E08-C3D06090B6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