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75598"/>
        <c:axId val="69277361"/>
      </c:barChart>
      <c:catAx>
        <c:axId val="61175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77361"/>
        <c:crosses val="autoZero"/>
        <c:auto val="1"/>
        <c:lblAlgn val="ctr"/>
        <c:lblOffset val="100"/>
        <c:noMultiLvlLbl val="0"/>
      </c:catAx>
      <c:valAx>
        <c:axId val="69277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75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DFF-0C6F-4272-A0EF-B9CE9ADC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B69-684C-470F-A1AE-386EF125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DF6-31FE-4856-9F4A-E2D18244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467-2105-41EF-8AD3-DC896A6C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A24-C26B-4A34-A755-9C7C593E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624-D074-4CD1-A7FA-7FA4BD4E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D81-263D-47B3-A83E-968C4869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A6C-B596-4315-8B84-75BEE7B1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804-2CFF-4148-8EA1-8EF48099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34D-6EDE-44E9-97EE-D5151D2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00A-02BC-4B1E-8799-466CE6A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B11-E4F2-4864-B5A0-C45A297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6BFDB-DFC9-4433-88B2-27E4229E6F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