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14813"/>
        <c:axId val="1047998"/>
      </c:barChart>
      <c:catAx>
        <c:axId val="388148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7998"/>
        <c:crosses val="autoZero"/>
        <c:auto val="1"/>
        <c:lblAlgn val="ctr"/>
        <c:lblOffset val="100"/>
        <c:noMultiLvlLbl val="0"/>
      </c:catAx>
      <c:valAx>
        <c:axId val="1047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148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1857-6F37-4CC2-9E79-EF76C600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913-1466-4468-A0D6-C72BCAE1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BE9-4001-4981-8FAC-19516D0E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3DEF-9627-4D1F-BD10-C81B13E7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27B6-1338-4B09-BD19-496BCEFF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6D0-9B46-48FB-9E2F-3978EA9F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082-BF02-47DD-AAE4-F1B7BCDC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4192-52A9-4EC3-A163-3E8991C5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CF7C-375D-4329-8E30-E4818A72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9F54-2932-41D0-8021-AF318148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CC7C-74B7-40A1-95F5-A3E79B54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54B-3A0F-42C6-B77C-5FA13E02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29D2D-C901-439E-B4F1-C68C288272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