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28406"/>
        <c:axId val="76131227"/>
      </c:barChart>
      <c:catAx>
        <c:axId val="74928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31227"/>
        <c:crosses val="autoZero"/>
        <c:auto val="1"/>
        <c:lblAlgn val="ctr"/>
        <c:lblOffset val="100"/>
        <c:noMultiLvlLbl val="0"/>
      </c:catAx>
      <c:valAx>
        <c:axId val="76131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28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DCA-4B54-4BE5-AF7A-4505E70A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C40-B694-4564-A1CC-4A2F9344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683-FBC6-41B9-AA03-629762B4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560-1A21-4E86-928F-44C3779D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EBA-D295-497E-8381-4D0CFF2B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C14-55C4-4217-9DC5-243BF955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8CA-F664-4B99-B8C3-DBF454A4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1B9-015D-44D5-A1EB-FD200631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CBC-D134-41A1-AE77-79DFE94A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714-939D-45D3-867B-E0408A90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AC6-C267-4977-88B5-B8862AE8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3219-2F72-4C6D-877A-0722FD4C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4F3A4-4A43-45DF-98E4-75CA181C2C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