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76421"/>
        <c:axId val="98881025"/>
      </c:barChart>
      <c:catAx>
        <c:axId val="79276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81025"/>
        <c:crosses val="autoZero"/>
        <c:auto val="1"/>
        <c:lblAlgn val="ctr"/>
        <c:lblOffset val="100"/>
        <c:noMultiLvlLbl val="0"/>
      </c:catAx>
      <c:valAx>
        <c:axId val="988810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76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4EA-CB24-4F3F-BABA-8A1A4868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A4DB-C092-46FA-9958-1455A2F9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CF8-26C0-47FD-9B80-8635995C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B940-1BE0-40FA-8455-C8F869ED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2023-72F2-4EC0-B7CA-98DDBDEB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EF42-B64E-42E7-BDE4-B0A9C9EB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9459-EE77-409B-9D1B-39DF01E5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0AD5-B7CA-4B52-9B40-03AA4E26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ACBE-0C8F-4D13-8230-DE6B0F15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FAE-9C01-4129-ABA5-6B8AC51B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2568-462E-4673-8553-E0472AFE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E31-2487-4343-B4DE-3BDD3949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B0A51-5C52-46DB-82E9-0B0442D1ED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