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24170"/>
        <c:axId val="84578468"/>
      </c:barChart>
      <c:catAx>
        <c:axId val="82624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78468"/>
        <c:crosses val="autoZero"/>
        <c:auto val="1"/>
        <c:lblAlgn val="ctr"/>
        <c:lblOffset val="100"/>
        <c:noMultiLvlLbl val="0"/>
      </c:catAx>
      <c:valAx>
        <c:axId val="84578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24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61F-136D-4AAE-AB53-35F8D6B9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6FE-C375-45A0-BFE9-38C71ECC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421-609C-41AA-80C3-31F2635D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AB7-E92B-41F3-AE7E-B34E3822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0AD-47DD-4580-803E-488AC737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125-4CE3-475F-AD05-A372A79F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30F-A4C4-481A-ABB9-90B09E4A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CF2-6E15-4BC3-A236-11171E27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CAA-6507-45B1-8F50-A22D40F6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FF2-EE97-4D69-AA4E-8C478BA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101-B27C-4357-A28C-6017D8E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3BC-DF64-4458-B4EF-4F342140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32C48-D9F2-4241-AC82-29E2AF1166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