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60593"/>
        <c:axId val="62565577"/>
      </c:barChart>
      <c:catAx>
        <c:axId val="12060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65577"/>
        <c:crosses val="autoZero"/>
        <c:auto val="1"/>
        <c:lblAlgn val="ctr"/>
        <c:lblOffset val="100"/>
        <c:noMultiLvlLbl val="0"/>
      </c:catAx>
      <c:valAx>
        <c:axId val="62565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0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ED6-674B-4D25-8D7F-B731C9B9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592-8EA1-4EE0-B185-90B378AD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137-405E-4707-8457-7E341595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5E8-1375-4114-A0F5-2A7658B8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C90-1B36-4135-B1E1-C92B307C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528-96EE-4399-8901-B6382544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5F6-90A8-4FC1-B3CD-13561165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982-90B5-4C47-9A5F-BF3F375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CBD-5B84-4ED5-A3B7-4E626B6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6F5-FFD3-4E58-873A-5352C8B9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EBE-ADE0-4668-9DB8-5236D1A4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BD5-6F19-4833-BD50-B896453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424DA-989C-46EB-B757-45D2E3CB5B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