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826307"/>
        <c:axId val="98553071"/>
      </c:barChart>
      <c:catAx>
        <c:axId val="628263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53071"/>
        <c:crosses val="autoZero"/>
        <c:auto val="1"/>
        <c:lblAlgn val="ctr"/>
        <c:lblOffset val="100"/>
        <c:noMultiLvlLbl val="0"/>
      </c:catAx>
      <c:valAx>
        <c:axId val="985530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263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ACFE-E87F-49A5-B835-179FBD393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A80F-BC22-4F28-AB7D-6E40C5DC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49BF-5D8D-4713-BCFE-054E842E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A023-3F0E-45BD-AB97-C9BD0EB1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E837-9DDB-4F4D-A454-588C6019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D2D8-E50E-4463-8760-0CF0846D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B1CA-917F-457A-B024-BCCC3951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DDCD-61AF-440C-B3B9-8A615E48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CABF-D793-4814-B8B8-D3B151AE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6AD3-3A1F-4348-843D-93C1E25D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24FC-6764-4A61-A0AC-D4FB2235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C39D-EAD0-4CEA-A1D8-276EA076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20D09-3852-478A-82E9-322FA6F606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