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5627"/>
        <c:axId val="24059967"/>
      </c:barChart>
      <c:catAx>
        <c:axId val="7845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59967"/>
        <c:crosses val="autoZero"/>
        <c:auto val="1"/>
        <c:lblAlgn val="ctr"/>
        <c:lblOffset val="100"/>
        <c:noMultiLvlLbl val="0"/>
      </c:catAx>
      <c:valAx>
        <c:axId val="240599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5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C620-15B5-4430-85B9-C30AB9D3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4B1-3236-45D7-9191-1B108A7A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686-A6E6-4067-840F-F6FCD8BC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1B5-0CDD-498A-B098-C1935E7E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B45-1703-4ADA-A253-7E4390E2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EB49-EEEC-4ED3-B552-78B97F26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C8BF-024E-45CC-919C-BC7880D5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B84-6E8A-40A0-A278-A55D18ED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B21-07EA-4BEA-8ADE-691CEB7E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88B1-45F3-4039-9A72-9882362C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C3D2-D383-4CDF-B396-210EBC64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559-33E6-4022-BD18-99B9ACA2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E9B2B-8FFC-48A3-85D3-992154C621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