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40594"/>
        <c:axId val="51398983"/>
      </c:barChart>
      <c:catAx>
        <c:axId val="89540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98983"/>
        <c:crosses val="autoZero"/>
        <c:auto val="1"/>
        <c:lblAlgn val="ctr"/>
        <c:lblOffset val="100"/>
        <c:noMultiLvlLbl val="0"/>
      </c:catAx>
      <c:valAx>
        <c:axId val="51398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40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D08-9FA5-493C-B422-0D77514A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9F9-42E6-4939-8F9D-DDA1775F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F9E-9CD4-4164-BCEA-A3E7B968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86A-B830-46DA-A354-976F17C9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ABE-ADBC-4EF8-8CDE-DF3E31FB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B90-7E8D-4E7E-BCD8-403E52B1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7AD-F516-4690-8CF0-6FB2A8A9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230-8F9A-42C6-BDEB-06FEE03C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CEE-3799-4DBB-B4EE-8E9697B9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4FB-8EF9-426B-9B8E-C5E920C8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03A-A9B0-4421-8DF3-751F1D2D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F46-F5DA-48E5-8204-5F6C1128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702C2-EEDC-45E0-AF54-0786E856F2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