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64923"/>
        <c:axId val="38848772"/>
      </c:barChart>
      <c:catAx>
        <c:axId val="74664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48772"/>
        <c:crosses val="autoZero"/>
        <c:auto val="1"/>
        <c:lblAlgn val="ctr"/>
        <c:lblOffset val="100"/>
        <c:noMultiLvlLbl val="0"/>
      </c:catAx>
      <c:valAx>
        <c:axId val="38848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64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625-F506-4561-915C-EEB43397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A59-A70D-4C8D-BAB6-1D4656A7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D35-6EA3-4453-9103-370BA523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E83-6F69-4ABD-95EA-FF4EFBEE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A69-0A6B-4EA3-BC0C-CE421076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092-57E6-4364-AA8A-2196E4FE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BE0-4673-4C3F-97FE-738E8480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C19-EA9A-42A2-8924-E153B0CB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B3B-2BBC-443F-B449-ED56AC1B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E17-DF6C-4BF0-8A3B-D9B38202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7DB-7BE6-4DFB-A7CA-54D1E4FA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7A5-2ACD-482D-85AF-3EEAD410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055BC-1536-4310-9A97-E93ADFC1B0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