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0205"/>
        <c:axId val="90872715"/>
      </c:barChart>
      <c:catAx>
        <c:axId val="976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72715"/>
        <c:crosses val="autoZero"/>
        <c:auto val="1"/>
        <c:lblAlgn val="ctr"/>
        <c:lblOffset val="100"/>
        <c:noMultiLvlLbl val="0"/>
      </c:catAx>
      <c:valAx>
        <c:axId val="9087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501-0220-4109-801B-1A0FA09E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BBC-A99C-4D0B-B6FE-05721CD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343-F4F8-4464-9C8E-3889CCBC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EA6-0E48-4162-89B0-3B11FE8F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2B0-707E-42FE-BA3B-582F522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DAB-19BE-4802-8BBE-067BD5C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C64-5009-4ED4-93DC-52867667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4BB-7560-4786-8062-F7B4909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364-C99F-4539-903F-B7746CC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E92-0F3B-45B9-98D5-634DD18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B0F-54AB-44D1-903D-B5A49D7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1C9-E30F-471B-B5DA-DDF5E98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D0CC0-3380-4C07-B77A-3D31C28327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