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38050"/>
        <c:axId val="6793293"/>
      </c:barChart>
      <c:catAx>
        <c:axId val="83738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293"/>
        <c:crosses val="autoZero"/>
        <c:auto val="1"/>
        <c:lblAlgn val="ctr"/>
        <c:lblOffset val="100"/>
        <c:noMultiLvlLbl val="0"/>
      </c:catAx>
      <c:valAx>
        <c:axId val="679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8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86F-CCC8-43D3-A8D3-0406EA49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18B-60CF-4682-9C6F-2C4F5445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1E0-FBC6-42B2-81C9-31FBC716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DC3-3AE7-4BD5-BC4B-8223B307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FFA-D06C-43B9-8865-F8F1245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BAE-FB40-415F-802B-7F08D965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3FA-9BD9-4831-91DB-0FCCE8B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FB4-E0B1-4BC6-9748-B283BAB2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3F7-B8B7-4E02-A433-E885AC6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2AC-3779-4B0E-9ED2-7DC2334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3D2-2F84-4CFC-9BA2-853723B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391-5DAB-4A8D-B6E5-9B061D7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E048-3B4A-40C9-80E0-948F764BCA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