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00376"/>
        <c:axId val="31060033"/>
      </c:barChart>
      <c:catAx>
        <c:axId val="30800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60033"/>
        <c:crosses val="autoZero"/>
        <c:auto val="1"/>
        <c:lblAlgn val="ctr"/>
        <c:lblOffset val="100"/>
        <c:noMultiLvlLbl val="0"/>
      </c:catAx>
      <c:valAx>
        <c:axId val="31060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0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B66-4272-4DE7-BF95-BEEA3A60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350-2D29-414D-BE44-FB7B2CA3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611-4A3F-45EB-A6A5-4B4F0B15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3DF-F130-440A-AFA1-3253C1D0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CCD-E107-498E-AA36-E1742B9D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C3C-8A13-4030-9E84-882F1851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6EF-2429-4967-B7F5-1BBA369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70F-0447-467E-90EF-C485EFF5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250-4A73-4C2F-87AD-A67AA911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7EB-C0DA-453D-BEB8-36D45556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3B5-E55B-4AAD-A619-548B364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812-B229-459A-8B59-3E7206B2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56089-E160-4CF0-AF24-FE399DC0C0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