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45358"/>
        <c:axId val="55270568"/>
      </c:barChart>
      <c:catAx>
        <c:axId val="28945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70568"/>
        <c:crosses val="autoZero"/>
        <c:auto val="1"/>
        <c:lblAlgn val="ctr"/>
        <c:lblOffset val="100"/>
        <c:noMultiLvlLbl val="0"/>
      </c:catAx>
      <c:valAx>
        <c:axId val="55270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45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BF2-04AC-457C-A427-40887F06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E91-238E-478C-B257-D5D47C6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131-B8A7-4776-B0AA-91425F95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8EB-C912-4387-BE4C-607F5291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C37-83C2-49E2-BC00-4A211ABB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311-30A9-47EC-96A4-6FDE6A49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9C1-836A-4BAD-9AEA-65E46D07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DEF-4DAD-4292-8B47-B21B6DC5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90D-7124-4723-97EA-19CBFC2D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AE3-AEFA-4C45-9200-E961419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9EE-C80E-40D0-A943-D5ABA9F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589-398C-424D-817E-A759297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1C926-5049-42C4-8A0B-29CE03E992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