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93985"/>
        <c:axId val="31325571"/>
      </c:barChart>
      <c:catAx>
        <c:axId val="42693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25571"/>
        <c:crosses val="autoZero"/>
        <c:auto val="1"/>
        <c:lblAlgn val="ctr"/>
        <c:lblOffset val="100"/>
        <c:noMultiLvlLbl val="0"/>
      </c:catAx>
      <c:valAx>
        <c:axId val="31325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3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086-BA10-4B1C-BD5C-3DDC19D1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B93-101B-459B-809B-54DF685F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859-FE0E-4319-B6F5-85FFC628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910-75FA-4C07-9D12-1F769A51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0CA-E4DA-4FA3-AB93-BA27C89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7B2-F449-4A4A-8DD2-863F45BD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95F-1169-412D-AA93-FCB9082E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B12-A140-4828-87FE-B382AB75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051-5606-48B7-8236-B883B8CD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DCB-BD70-412E-9CE8-352E51B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E2A-C568-4AF6-A6CD-A44BCAC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563-A6DE-4A2E-AFA7-54C4E2DC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B349D-5C9E-4A2D-AD48-5CD6B1E97B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