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614183"/>
        <c:axId val="40398885"/>
      </c:barChart>
      <c:catAx>
        <c:axId val="946141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398885"/>
        <c:crosses val="autoZero"/>
        <c:auto val="1"/>
        <c:lblAlgn val="ctr"/>
        <c:lblOffset val="100"/>
        <c:noMultiLvlLbl val="0"/>
      </c:catAx>
      <c:valAx>
        <c:axId val="403988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6141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1CA3-8151-4353-824D-CD6704250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F8A0-9C22-47DB-BE11-32819CBC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493A-F903-4A6F-83F8-686CDCF36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75DE-267C-4F8E-9664-F11068917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7637-BAC1-4958-95F0-F8EA3B3D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7E9D-6F64-444A-BC59-4D23462F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8C9B-41B4-4190-B0F0-87D62AE8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B99E-808C-4371-A274-8DF2F39D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08AB-892B-4FCF-B4A3-D9845C14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6A20-2D93-40AE-9003-AF0EED92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4F0B-AF8B-4B24-BFD5-939061F7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73FD-89C6-4EEF-8AB9-77E50707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AACD87-B5E3-4C95-A4CA-90B84BABA1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