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122995"/>
        <c:axId val="27219526"/>
      </c:barChart>
      <c:catAx>
        <c:axId val="921229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219526"/>
        <c:crosses val="autoZero"/>
        <c:auto val="1"/>
        <c:lblAlgn val="ctr"/>
        <c:lblOffset val="100"/>
        <c:noMultiLvlLbl val="0"/>
      </c:catAx>
      <c:valAx>
        <c:axId val="272195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1229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D046-05DD-4E64-B0B4-6FA7289C0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D711-CCDD-4773-9CCD-10178A97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3FF4-A3CB-409B-89E1-974097E8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1657-18F8-4181-9C7D-1CE6CBB15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0DA4-95C7-4A57-B30F-68FE8784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0430-9CA1-4D76-9FAF-EC3ED1A0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0E3F-67C7-4918-BBE5-C51555BE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4319-C484-469B-A6B6-5A22CBF2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C9BE-C9FC-433B-BCA9-FA96F175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E08C-82A3-4303-A57F-D2CDD640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3A14-92CF-41F8-9898-C18212AE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5D78-4DCD-44EF-A978-63004514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50C85-FBF8-4476-8E20-3CD552BFB0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