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40323"/>
        <c:axId val="68273474"/>
      </c:barChart>
      <c:catAx>
        <c:axId val="31340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3474"/>
        <c:crosses val="autoZero"/>
        <c:auto val="1"/>
        <c:lblAlgn val="ctr"/>
        <c:lblOffset val="100"/>
        <c:noMultiLvlLbl val="0"/>
      </c:catAx>
      <c:valAx>
        <c:axId val="68273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0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95E-F2BE-428F-AB34-7903ADF5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857-A480-46BF-B671-40A555E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1C5-AB7D-4B65-8CA4-037FE1AA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7EB-7D29-410E-A5E2-64ABD419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564-233D-4EE5-B6CE-0D615075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31E-AC92-4DBD-9F21-056661F2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C5C-8BD7-44F9-80D5-B5A8447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B60-96CE-4F19-B0E7-970503C2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3DA-0123-4117-A818-85F18C02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D70-78CC-4C3B-B60A-02BF091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BFB-EF05-42E7-8292-6F514FE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28A-53D7-43BB-9B53-4F47246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5DDAE-9416-4C93-9A08-3E341BC77E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