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52101"/>
        <c:axId val="10199215"/>
      </c:barChart>
      <c:catAx>
        <c:axId val="33952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99215"/>
        <c:crosses val="autoZero"/>
        <c:auto val="1"/>
        <c:lblAlgn val="ctr"/>
        <c:lblOffset val="100"/>
        <c:noMultiLvlLbl val="0"/>
      </c:catAx>
      <c:valAx>
        <c:axId val="10199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52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160-6292-4ACA-93A0-62EE9D81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7D3-561D-4F68-BE28-23ACAB6E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21D-06E8-4738-8E46-967A8DAE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E76-9F69-4708-B835-8276FEDC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800-0085-48EE-9EB1-CB9FEDA8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105-992E-4F00-8321-28612302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D27-F170-4352-AD36-BCC388CC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7B3-3FF8-4E7A-BA08-81B4F894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E25-B1F4-432D-A5C2-06951C10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984-07D7-4CD1-9072-BE30EF8B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06D-1BE0-40C6-AA5E-2300AAC8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1FB-3415-425B-B77B-980B0DE9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1A83F-DCC0-4E40-AAA0-44CAAD28A9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