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45635"/>
        <c:axId val="44647958"/>
      </c:barChart>
      <c:catAx>
        <c:axId val="65545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7958"/>
        <c:crosses val="autoZero"/>
        <c:auto val="1"/>
        <c:lblAlgn val="ctr"/>
        <c:lblOffset val="100"/>
        <c:noMultiLvlLbl val="0"/>
      </c:catAx>
      <c:valAx>
        <c:axId val="44647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45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3A5-0652-414F-A46D-E5BCF0B7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B83-ECCB-4353-B817-3715ED4A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9F7-4062-4CC7-9033-67025A20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555-35E6-4603-9C44-7564033C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CE1-8455-449A-BB19-60B4E09F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AD3-4855-4230-A499-A43FBD8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16E-F872-46B6-8A38-1500706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884-1694-4438-9F30-188B6055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65A-7CDF-44F2-884E-BDF742C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8AD-4F7D-4EC0-99A8-6B53E06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0FB-2378-4DD8-938F-9BFA080C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AA0-325C-4F09-B6E2-B31D0DA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05D27-3DD0-4569-B632-6D5C44302B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