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46175"/>
        <c:axId val="36251620"/>
      </c:barChart>
      <c:catAx>
        <c:axId val="8634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1620"/>
        <c:crosses val="autoZero"/>
        <c:auto val="1"/>
        <c:lblAlgn val="ctr"/>
        <c:lblOffset val="100"/>
        <c:noMultiLvlLbl val="0"/>
      </c:catAx>
      <c:valAx>
        <c:axId val="36251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7D9-45F4-4344-8249-5C5D0CC8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08D-0611-4E75-90E3-AB65F6A7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3DB-B76C-417A-8ACE-5690CB0C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A90-9287-434A-9D27-1360CEC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ACD-A17A-407B-B927-97B6D20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60A-9FB1-4C1D-BD5D-ABE4BE1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46C-6C53-4612-B0A8-25DE662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3F9-19C0-43CD-8473-E2DABC7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AE0-F653-4025-A864-D812A3B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658-38AB-4EE2-B2C2-0FAF5D93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E5B-C884-46CF-B1F2-9B2BF7D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8EE-886C-4AE8-93DC-AB772224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26545-8224-41B9-9A45-8BB07898B6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