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56679"/>
        <c:axId val="63940668"/>
      </c:barChart>
      <c:catAx>
        <c:axId val="79756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0668"/>
        <c:crosses val="autoZero"/>
        <c:auto val="1"/>
        <c:lblAlgn val="ctr"/>
        <c:lblOffset val="100"/>
        <c:noMultiLvlLbl val="0"/>
      </c:catAx>
      <c:valAx>
        <c:axId val="63940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56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C23-CC2B-41E2-BF56-48AC61A8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C8B-5995-4389-98B7-4BE94940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5A9-138F-49E2-8849-BC719E37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3E6-E886-4374-95A5-8AA109D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55F-53C7-46B3-A059-AF8E9A84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91D-0742-4556-A736-7DC6CB15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CC8-27F5-43DC-B97C-8AAF8928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281-DBDF-4B53-B51A-C435981F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3A3-C4CF-4F9B-AA75-CB762E5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31F-0602-481E-B968-7BC01AD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A49-1A9C-4D70-839D-7867B54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BB4-5476-474D-AD48-48A8CF82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684D-9D99-4AB0-8CEC-6870574D6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