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4974"/>
        <c:axId val="6512537"/>
      </c:barChart>
      <c:catAx>
        <c:axId val="32349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2537"/>
        <c:crosses val="autoZero"/>
        <c:auto val="1"/>
        <c:lblAlgn val="ctr"/>
        <c:lblOffset val="100"/>
        <c:noMultiLvlLbl val="0"/>
      </c:catAx>
      <c:valAx>
        <c:axId val="6512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49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4359-9C0C-4E47-AFC1-5CD35E00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A847-9375-443C-977A-C561C26C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CF7F-9D2B-4662-A53A-D77867F7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8A1-5E23-4319-848E-38E2FF2B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77BB-F912-40C1-A2D0-AAE33683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ABB-6573-4AB3-9125-2512B87F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F50-71BF-4C97-86F4-0A736FA3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8E5-445B-4127-B33D-D05E775C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8F22-3D88-4375-8099-02B2D65A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531-61B3-4C7B-847B-85C69130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B69-D1DD-4CAD-8C89-DDA910FA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52C-D9B0-41A2-BEBC-01D5FA92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8296B-A2BA-44FB-BBC2-42C3FAB402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