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78215"/>
        <c:axId val="81942066"/>
      </c:barChart>
      <c:catAx>
        <c:axId val="56578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2066"/>
        <c:crosses val="autoZero"/>
        <c:auto val="1"/>
        <c:lblAlgn val="ctr"/>
        <c:lblOffset val="100"/>
        <c:noMultiLvlLbl val="0"/>
      </c:catAx>
      <c:valAx>
        <c:axId val="81942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78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69F-B4F9-41F9-81C2-6541DE73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2C2-2015-49D0-A447-64DC3D93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B5B-119F-430A-AE5E-EC48C4E3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7FF-2790-492C-8054-A76397FD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B2C-071B-4150-960B-EDD3115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7C2-EDE2-4A84-B3E4-EE3C3D90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BCC-7B51-4FAD-8F3E-9E53529A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179-614B-4533-9A2A-92E4D6E0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D6F-2FC9-463D-ADCF-098C864E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CCC-0E0B-451F-9134-66CA5B9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7CC-743B-47DD-B26B-73C7324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1CD-DBDF-42E8-99E8-C1CE4704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EE263-A5BE-4D6F-AC4B-B870BCE05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