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47209"/>
        <c:axId val="99100457"/>
      </c:barChart>
      <c:catAx>
        <c:axId val="56447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00457"/>
        <c:crosses val="autoZero"/>
        <c:auto val="1"/>
        <c:lblAlgn val="ctr"/>
        <c:lblOffset val="100"/>
        <c:noMultiLvlLbl val="0"/>
      </c:catAx>
      <c:valAx>
        <c:axId val="99100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47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1CE-3970-4271-AC36-27D8753A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8A2-C415-41D4-BA58-33E6D52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498-CB72-4DF0-9336-BFBADFE9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30C-6D8F-495A-BFC8-0444FCEE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C94-96CE-45AF-9521-9A85462E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093-D512-41B5-9A41-B817467F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0B8-1922-4BDF-8C94-B3794CC2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2AC-E77B-46E5-9E3D-F71F7D7C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A8C-8642-4BBD-894B-978F4C5E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9EF-58F2-4F27-990D-10CA4DB5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B56-C115-4AEB-BBFE-A3640177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DF8-CDEA-4B24-ABB2-B730A633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28155-2D27-496F-868C-6075933EFF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