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55627"/>
        <c:axId val="47529076"/>
      </c:barChart>
      <c:catAx>
        <c:axId val="86555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29076"/>
        <c:crosses val="autoZero"/>
        <c:auto val="1"/>
        <c:lblAlgn val="ctr"/>
        <c:lblOffset val="100"/>
        <c:noMultiLvlLbl val="0"/>
      </c:catAx>
      <c:valAx>
        <c:axId val="47529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55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19C-9DE1-430E-AFB4-38C38F92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AAA6-031E-4610-B8A7-54FF5A82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E0E-FD25-4AF6-A475-63155B37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FAC-91AA-407A-ABB3-1E123A42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810-FE5F-4568-9181-C5B7CAB5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D92-11A3-44B9-A4CA-411C3750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CD69-7835-49F2-9A3A-76AB036F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690-25F8-42C1-AE3C-09019D1B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AD3-52B1-4D30-99DF-236C3402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286-E9D1-47C3-BB86-A4276F20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AFD-94B4-4C90-B2DA-67F0EA7B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C74-C7D9-41D1-ACF5-902919D4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735E7-5914-4C7A-AD90-589765A7C7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