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88523"/>
        <c:axId val="99012406"/>
      </c:barChart>
      <c:catAx>
        <c:axId val="24688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12406"/>
        <c:crosses val="autoZero"/>
        <c:auto val="1"/>
        <c:lblAlgn val="ctr"/>
        <c:lblOffset val="100"/>
        <c:noMultiLvlLbl val="0"/>
      </c:catAx>
      <c:valAx>
        <c:axId val="99012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88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F37-583C-46A2-8308-EBB1A3D5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254-0A6C-48A5-AD9F-F843F6EE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049-E6B9-4854-B0B8-B83DFEC3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D65-3108-424B-8C50-1FCB5C6F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0F3-1B34-448A-A101-B854B7D5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12A-8333-4095-B122-7E75524B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EB4-6E7A-4520-AE62-AA0E6C8D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8EC-DCE4-43C8-8C90-2933F608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4D1-B0BD-467B-AFC4-65027B36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C18-CB8E-489D-8C36-35D1D10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B08-2DF3-40CF-8DCD-95C8B511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E84-A124-42E7-AA8F-FA49AE7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1B35F-5C53-4998-8C99-EEF53B10C6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