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26796"/>
        <c:axId val="25998624"/>
      </c:barChart>
      <c:catAx>
        <c:axId val="57426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8624"/>
        <c:crosses val="autoZero"/>
        <c:auto val="1"/>
        <c:lblAlgn val="ctr"/>
        <c:lblOffset val="100"/>
        <c:noMultiLvlLbl val="0"/>
      </c:catAx>
      <c:valAx>
        <c:axId val="25998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26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65A-E9A0-4F33-ADDF-F6DA183A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289-E3DD-4A36-9C9F-E85F6195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FA8-C846-49C8-9704-5B2BACA3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1C9-BB01-4289-B94B-56FE8F51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468-A704-451A-8C9E-7BB9D8B3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971-8412-460E-AC54-F935A213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B02-66AB-4D62-ABCC-6A6A2123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0F-2BC0-4555-A325-AC784A2F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ACE-7D62-49FD-85C8-DF35BA8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0AE-5574-4C5E-885E-EFEA3C2A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D5E-AC39-42F6-977E-700F6AA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944-2923-4AD9-B6A9-DEA8073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7488-C023-4870-89C4-8699DAE331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